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SER.WAV" ContentType="audio/x-wav"/>
  <Override PartName="/ppt/media/CAMERA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8EF-2830-436D-A2B3-477B72C3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F4A-F987-4F8A-ACC0-3C2C47B8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187-212F-46E1-9463-BC2DED85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F69-2790-4E40-9658-7667B6FD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0D01-D89A-4C45-90BB-3A59B63F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58B-6A2E-4F80-AF18-1A173600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F09-7C29-49C2-A947-CC467465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E454-DA98-44E7-9726-75795A56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EC78-F4B6-42CC-9F11-E56C356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86A0-F87F-4F84-98A4-67B4342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5080-C6D7-4067-BA81-1EE657F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C35-EE3C-44B5-B351-218DFA8E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356C-818A-4C0C-880B-006F547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8F8A-B04B-4363-AD30-7CED970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DEEC-818B-40BC-88F3-AE1ECD4C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BC75-D266-43A4-87F7-BFDC2359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88D5-3D2C-45F7-A791-29CD924C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D65-D9C9-4989-878F-CFAE642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105-327A-4635-890D-4289BC70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6DF-7A10-434E-A894-687E5052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72F-CFE4-4120-8929-0E8FAA9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2A4-D0F9-4329-9BBC-6201753C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528-64E5-4646-850E-1DE0245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3A7-930F-4868-B2AA-147B492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46E0-648A-4741-A5C7-4BC28B1E42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AEDA-EE3D-43FD-89D7-37A741E2C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FACTORISATION</a:t>
            </a:r>
            <a:endParaRPr b="1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fference of Perfect Squares   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OP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ach of the following is an example of a perfect squar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umbers:   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1, 4, 9, 16, 49, 81, 121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ariables: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95480" y="4521240"/>
                <a:ext cx="5105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066680" y="1066680"/>
            <a:ext cx="7086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1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actorise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486400" y="762120"/>
                <a:ext cx="2438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81280"/>
                <a:ext cx="6212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809880" y="4343040"/>
            <a:ext cx="2133720" cy="609480"/>
            <a:chOff x="3809880" y="4343040"/>
            <a:chExt cx="2133720" cy="609480"/>
          </a:xfrm>
        </p:grpSpPr>
        <p:sp>
          <p:nvSpPr>
            <p:cNvPr id="145" name=""/>
            <p:cNvSpPr/>
            <p:nvPr/>
          </p:nvSpPr>
          <p:spPr>
            <a:xfrm flipV="1">
              <a:off x="3809880" y="4343040"/>
              <a:ext cx="609840" cy="60948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09880" y="4343040"/>
              <a:ext cx="2133720" cy="60948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14400" y="4952880"/>
            <a:ext cx="2971800" cy="11912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Note that the first term in each bracket is the sa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4120" y="4267080"/>
            <a:ext cx="1676160" cy="990720"/>
            <a:chOff x="5334120" y="4267080"/>
            <a:chExt cx="1676160" cy="990720"/>
          </a:xfrm>
        </p:grpSpPr>
        <p:sp>
          <p:nvSpPr>
            <p:cNvPr id="149" name=""/>
            <p:cNvSpPr/>
            <p:nvPr/>
          </p:nvSpPr>
          <p:spPr>
            <a:xfrm flipH="1" flipV="1">
              <a:off x="5334120" y="4267080"/>
              <a:ext cx="1295280" cy="99072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629400" y="4343400"/>
              <a:ext cx="380880" cy="9144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952880" y="3200400"/>
            <a:ext cx="1524240" cy="762120"/>
            <a:chOff x="4952880" y="3200400"/>
            <a:chExt cx="1524240" cy="762120"/>
          </a:xfrm>
        </p:grpSpPr>
        <p:sp>
          <p:nvSpPr>
            <p:cNvPr id="152" name=""/>
            <p:cNvSpPr/>
            <p:nvPr/>
          </p:nvSpPr>
          <p:spPr>
            <a:xfrm flipH="1">
              <a:off x="4952880" y="3200400"/>
              <a:ext cx="533520" cy="76212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3200400"/>
              <a:ext cx="990720" cy="60948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8480" y="2246400"/>
            <a:ext cx="2514600" cy="947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ne bracket ha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the other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86400" y="5257800"/>
            <a:ext cx="3429000" cy="1191240"/>
            <a:chOff x="5486400" y="5257800"/>
            <a:chExt cx="3429000" cy="1191240"/>
          </a:xfrm>
        </p:grpSpPr>
        <p:sp>
          <p:nvSpPr>
            <p:cNvPr id="156" name=""/>
            <p:cNvSpPr/>
            <p:nvPr/>
          </p:nvSpPr>
          <p:spPr>
            <a:xfrm>
              <a:off x="5486400" y="5257800"/>
              <a:ext cx="3429000" cy="1191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Note that the second term in each bracket is the same and it is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8001000" y="6019920"/>
                  <a:ext cx="53352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47920" y="3184560"/>
                <a:ext cx="6248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4120" y="619200"/>
                <a:ext cx="19047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09480" y="789120"/>
            <a:ext cx="45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2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actoris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276720"/>
            <a:ext cx="365760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2452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3147840"/>
                <a:ext cx="678168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85800" y="1066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3:  Factoris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181480" y="865080"/>
                <a:ext cx="16765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809880" y="3429000"/>
            <a:ext cx="419112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2560680"/>
                <a:ext cx="71406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5716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4 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actorise  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276880" y="304920"/>
                <a:ext cx="21463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2971800" y="3352680"/>
            <a:ext cx="3352680" cy="990720"/>
            <a:chOff x="2971800" y="3352680"/>
            <a:chExt cx="3352680" cy="990720"/>
          </a:xfrm>
        </p:grpSpPr>
        <p:sp>
          <p:nvSpPr>
            <p:cNvPr id="173" name=""/>
            <p:cNvSpPr/>
            <p:nvPr/>
          </p:nvSpPr>
          <p:spPr>
            <a:xfrm flipV="1">
              <a:off x="2971800" y="3352680"/>
              <a:ext cx="1219320" cy="99072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971800" y="3352680"/>
              <a:ext cx="3352680" cy="99072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362480"/>
            <a:ext cx="3429000" cy="1191240"/>
            <a:chOff x="5562720" y="4362480"/>
            <a:chExt cx="3429000" cy="1191240"/>
          </a:xfrm>
        </p:grpSpPr>
        <p:sp>
          <p:nvSpPr>
            <p:cNvPr id="176" name=""/>
            <p:cNvSpPr/>
            <p:nvPr/>
          </p:nvSpPr>
          <p:spPr>
            <a:xfrm>
              <a:off x="5562720" y="4362480"/>
              <a:ext cx="3429000" cy="1191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Note that the second term in each bracket is the same and it is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8142120" y="5124600"/>
                  <a:ext cx="40176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5638680" y="3276360"/>
            <a:ext cx="1905120" cy="1067040"/>
            <a:chOff x="5638680" y="3276360"/>
            <a:chExt cx="1905120" cy="1067040"/>
          </a:xfrm>
        </p:grpSpPr>
        <p:sp>
          <p:nvSpPr>
            <p:cNvPr id="179" name=""/>
            <p:cNvSpPr/>
            <p:nvPr/>
          </p:nvSpPr>
          <p:spPr>
            <a:xfrm flipH="1" flipV="1">
              <a:off x="5638680" y="3276360"/>
              <a:ext cx="152640" cy="10666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91320" y="3352680"/>
              <a:ext cx="1752480" cy="99072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800600" y="1467000"/>
            <a:ext cx="2514600" cy="947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ne bracket ha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the othe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81480" y="2438280"/>
            <a:ext cx="2133720" cy="533520"/>
            <a:chOff x="5181480" y="2438280"/>
            <a:chExt cx="2133720" cy="533520"/>
          </a:xfrm>
        </p:grpSpPr>
        <p:sp>
          <p:nvSpPr>
            <p:cNvPr id="183" name=""/>
            <p:cNvSpPr/>
            <p:nvPr/>
          </p:nvSpPr>
          <p:spPr>
            <a:xfrm flipH="1">
              <a:off x="5181480" y="2438280"/>
              <a:ext cx="457200" cy="53352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8680" y="2438280"/>
              <a:ext cx="1676520" cy="45720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143000" y="4365720"/>
            <a:ext cx="3276720" cy="1191240"/>
            <a:chOff x="1143000" y="4365720"/>
            <a:chExt cx="3276720" cy="1191240"/>
          </a:xfrm>
        </p:grpSpPr>
        <p:sp>
          <p:nvSpPr>
            <p:cNvPr id="186" name=""/>
            <p:cNvSpPr/>
            <p:nvPr/>
          </p:nvSpPr>
          <p:spPr>
            <a:xfrm>
              <a:off x="1143000" y="4365720"/>
              <a:ext cx="3276720" cy="119124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Note that the first term in each bracket is the same and is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2971800" y="5105520"/>
                  <a:ext cx="68904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63248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38080" y="2971800"/>
                <a:ext cx="76201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762120" y="944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5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Factoris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743040"/>
                <a:ext cx="27687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191120" y="3048120"/>
            <a:ext cx="4343400" cy="9144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1111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mplete Set B questions on the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We wish to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ank</a:t>
            </a: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 our supporters: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ommon Factor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he first thing to check when factorising is </a:t>
            </a: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common factor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ample 1: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actorise  3a + 12b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52680" y="838080"/>
            <a:ext cx="198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99"/>
                </a:solidFill>
                <a:latin typeface="Times New Roman"/>
              </a:rPr>
              <a:t>3a + 12b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13372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Look at the numbers.  What is the highest number that divides evenly into both 3 and 12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1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2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43117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e there any variables common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43640" y="50594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is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3505320"/>
            <a:ext cx="2057400" cy="6858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5029200"/>
            <a:ext cx="281952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685800"/>
            <a:ext cx="65534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w that we have established that 3 is the highest common factor (HCF), we put this outside the bracket,  s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3a + 12b  =  3(    +      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81280" y="3428640"/>
            <a:ext cx="1752480" cy="2422080"/>
            <a:chOff x="3581280" y="3428640"/>
            <a:chExt cx="1752480" cy="2422080"/>
          </a:xfrm>
        </p:grpSpPr>
        <p:sp>
          <p:nvSpPr>
            <p:cNvPr id="100" name=""/>
            <p:cNvSpPr/>
            <p:nvPr/>
          </p:nvSpPr>
          <p:spPr>
            <a:xfrm flipV="1">
              <a:off x="5333760" y="3428640"/>
              <a:ext cx="0" cy="53028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3927960"/>
              <a:ext cx="1752480" cy="192276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3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3a 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 ?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143680" y="286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019920" y="3429000"/>
            <a:ext cx="1828440" cy="2469960"/>
            <a:chOff x="6019920" y="3429000"/>
            <a:chExt cx="1828440" cy="2469960"/>
          </a:xfrm>
        </p:grpSpPr>
        <p:sp>
          <p:nvSpPr>
            <p:cNvPr id="104" name=""/>
            <p:cNvSpPr/>
            <p:nvPr/>
          </p:nvSpPr>
          <p:spPr>
            <a:xfrm flipV="1">
              <a:off x="6149880" y="3429000"/>
              <a:ext cx="0" cy="54720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976200"/>
              <a:ext cx="1828440" cy="192276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3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12b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 ?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848200" y="2890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4b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819520"/>
            <a:ext cx="1371600" cy="6094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00200" y="838080"/>
            <a:ext cx="601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99"/>
                </a:solidFill>
                <a:latin typeface="Times New Roman"/>
              </a:rPr>
              <a:t>Example 2 :       14ab + 18ac</a:t>
            </a:r>
            <a:endParaRPr b="0" lang="en-US" sz="3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13372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Look at the numbers.  What is the highest number that divides into both 14 and 18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133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1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216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2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2195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e there any variables common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3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5043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es, 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029200"/>
            <a:ext cx="281952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505320"/>
            <a:ext cx="2209680" cy="6858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685800"/>
            <a:ext cx="6553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w that we have established that 2a is the highest common factor (HCF), we put this outside the bracket,  s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ab + 18ac  =  2a(      +      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733920" y="3273480"/>
            <a:ext cx="2133000" cy="2054520"/>
            <a:chOff x="3733920" y="3273480"/>
            <a:chExt cx="2133000" cy="2054520"/>
          </a:xfrm>
        </p:grpSpPr>
        <p:sp>
          <p:nvSpPr>
            <p:cNvPr id="119" name=""/>
            <p:cNvSpPr/>
            <p:nvPr/>
          </p:nvSpPr>
          <p:spPr>
            <a:xfrm flipV="1">
              <a:off x="5866920" y="3273480"/>
              <a:ext cx="0" cy="53064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3920" y="3771000"/>
              <a:ext cx="2133000" cy="155700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2a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14ab 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?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562720" y="28335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7b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29400" y="3298320"/>
            <a:ext cx="1980720" cy="2400120"/>
            <a:chOff x="6629400" y="3298320"/>
            <a:chExt cx="1980720" cy="2400120"/>
          </a:xfrm>
        </p:grpSpPr>
        <p:sp>
          <p:nvSpPr>
            <p:cNvPr id="123" name=""/>
            <p:cNvSpPr/>
            <p:nvPr/>
          </p:nvSpPr>
          <p:spPr>
            <a:xfrm flipV="1">
              <a:off x="6770160" y="3298320"/>
              <a:ext cx="0" cy="47484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3775680"/>
              <a:ext cx="1980720" cy="192276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2a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18ac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 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477120" y="2833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9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838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actorise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ample 3 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ample 4 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9880" y="3033720"/>
                <a:ext cx="2971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809880" y="4176720"/>
                <a:ext cx="2343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5331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92080" y="1143000"/>
                <a:ext cx="62737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74800" y="3706920"/>
                <a:ext cx="58309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886200" y="4572000"/>
            <a:ext cx="320040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057400"/>
            <a:ext cx="3276720" cy="9144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5397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Now try the questions in Set A on the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2:01:38Z</dcterms:created>
  <dc:creator>Academic PowerPoint</dc:creator>
  <dc:description/>
  <dc:language>en-US</dc:language>
  <cp:lastModifiedBy>David Parnis</cp:lastModifiedBy>
  <dcterms:modified xsi:type="dcterms:W3CDTF">2004-11-08T05:20:11Z</dcterms:modified>
  <cp:revision>61</cp:revision>
  <dc:subject>Mathematics</dc:subject>
  <dc:title>Factorisation</dc:title>
</cp:coreProperties>
</file>